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324-40BD-40E8-B3C1-97EC6EE0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A40-B716-4F6B-A7ED-9E2171D0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88063-EAB0-4288-86E6-1325BBD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0FE47-33AC-4543-8DA6-1DA50E7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62406-2780-4EAB-9AB6-DAA530A5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8BC8A-F824-4FDC-B33A-3236317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63E02-CAD3-4ED3-BADF-17C932DD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CEE80-35C9-4876-BB02-321E726D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B511E-9A98-4A00-8653-26CE037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65BF1-A68F-4A58-BF4E-5CC101E1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44BBF-129A-4FF9-89A7-F3635550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83B7E-73B7-4057-BC1A-E33D62D5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9E5-3863-4CD5-94EB-65D0B4E0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B0961-D19D-44A1-A651-EF2E3F5C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06796-3F1D-4A8B-B836-83AA070C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08650-BEBF-46FA-BA6E-13CCF38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59575-D592-4B25-9CC8-1A7DEA76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79698-D8F3-4137-A3C9-424213ED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E1B2F-78E3-49C4-B028-B2C5A58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5683B-5C29-4957-92E2-50624EFF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59242-8D79-416D-AA01-17396AB9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13589-45BA-41D0-BC8C-ED023F7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59269-DFD0-4EB1-98A8-7CC4CFFA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BE6-AE15-4832-A581-7947EBC2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ACED-74D7-44A7-A599-EE1EE1BB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8AA949-2591-48A1-A760-7EF871F2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9127B6-B255-4CF8-B520-F3FDD6A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585765-EA68-4773-A2D3-8B08C597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60B809-52DD-45E0-918F-1BF2F89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561C3F-A002-4369-8D70-1B4F943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6CACAD-5702-468B-AF92-587F001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059165-362A-4295-8F63-BF425AA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69226F-8587-4DB0-897E-C6BB4D78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F75B30-190B-42E7-8624-F89F9F0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7CC-89CC-428D-97BC-3006F3E2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895442-1FFC-4B14-83A3-E2930FEA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8B6A02-2D89-4C78-BB5D-D1D0D652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C5FA6A-FDA8-43FD-B429-54CFD508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1973D-E660-498F-AD2E-A7AC4BE0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C9FEE-F0BF-487E-B7F3-0BB59D3D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DC6AB-D5A7-483E-B0CD-ABE6CFF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12285-C08F-4AC1-BBD4-737830FD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B239-9887-4FC7-863F-72E3CA2C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B2A4E-1C28-4CB1-813E-3CDA9A14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96880-C707-4504-A5F1-90EA42D4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B9CB-5665-4A42-B611-0E4B5337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B505C-8971-4A62-A5EA-ED817F0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CD905-CFF6-4CAC-A801-C5CEA6F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DAB3-5932-47A9-B30E-E063E07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0C8C1-8922-4344-9587-5A4988E1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0C38-A7D8-4CD2-925C-0BD97F4B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FEA354-A6EC-4D86-9B7C-54277A5D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FF199A-0984-47D2-98A2-6EAD391B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C37EF2-BBD9-4D45-8D1C-94CFAC0C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F17443-5EFB-40F5-8DBB-4483C0FB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94A52C-F593-40A6-AA4E-CB4647B9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B0D7-4C04-4053-B202-028B3C0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3F4AE-3FD4-4146-BF22-F0BC75A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50186E-30D0-47C6-80D1-62268E4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F205C-5C59-432D-A334-C8FC44C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511346-9DE2-47FC-8FEC-D4C2BC8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D8EC0-D158-4B99-B11C-7DA5F17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0AEC5C-86CB-4F93-8F64-8D13F1AA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79C8F-A59D-4F08-90BE-63F57513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9530C-1880-4F33-BECF-9EC25141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91CA4-7C4B-41B1-AF85-4F3FD26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2C525-828F-4C81-B062-7A4261E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241-F6F4-416A-8D5F-2DCA8BA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C7C52-8304-4116-8D05-8155EF7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C1F59-E2AC-430A-9484-E05EB03B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E351F-4631-41FA-9E8C-3097DF0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55924-97B3-4971-AA2F-93CEA4F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9D4B4-750D-45E3-9D70-96559DF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F0D7F8-FC5B-477A-8BA2-B65F4EE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EE81A-B440-462E-9052-5B96492C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9CF5F-7308-491B-967C-ADE81183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DA3BC-AD21-4EB8-95AB-0F1E72DC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A06FDC-CAAC-4DB5-8A2A-5A8A76D5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E03-7F1B-460A-AC76-9EE3B815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FE820-B850-4C12-A153-B8C1F68C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DE7E7-F8C1-410F-81AE-D7098187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88769-D74E-4B2E-AE2D-FBC467B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4879E-E64F-4A00-AA21-ABF5C98B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38E1C-2D92-4DD9-B633-A5CFEC0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93B19-0A20-432E-BFDC-79931907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21EE9-DB0B-4731-8213-79A4FB4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C2974-79D0-45B8-9FC0-CDD230B9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A5A50-D452-4E58-B263-ED421401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88CE5-FAC1-45DC-81D5-6C6DBEFE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D2A-EAA5-4CC8-9D7D-394F446B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DAAF1-50F5-4256-B0E4-34AFE3C8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382A6-80D9-432E-8956-5D7BC0E6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A135F-4C66-4BCD-87E7-3B36E990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76772-02F5-45F0-A69B-7EF03D1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63AD0-1301-4647-8FC8-0570728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1D4CC-E734-4158-BCE8-3AF2CFC3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CCEC8D-AB13-4A22-9CF4-273642FD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A1EDD-2833-42A6-AAE6-04E4AE4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D2E83-1B7A-45E3-8AA2-005574F5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32468-521F-4612-896E-25383500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8BAA-B3A4-401B-914E-B51293C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590E9-42DD-43C2-8C26-7C08BD8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9B3EA-088A-488B-8F2D-B0A6D0FC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442E4-CCE7-4B33-9C15-0184D01E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896EF18-D96C-48C4-9952-347FA8D3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CE8BD6-045A-4BE0-9ED3-E5146EA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4639D5-CF17-4DB6-A5F2-C41FB3B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A249A4-E024-4CC1-A32F-1669D8E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A2E662-30ED-4E97-8443-BA45ACE9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965950-A1DB-49FC-BB65-3673331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FFE3F2-4031-4635-9906-84FAD09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C3D-4B89-47ED-9C25-3F277AB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2796-5761-4500-B825-F002956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530E28-7198-4143-A504-77BF6A6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C22A0F-A58B-4384-B98A-C5CD9C7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8018AE-3616-4789-8E18-0F08599D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86637E-C2AC-4219-9510-2682F396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37C1D1-E1FC-42E5-AEBF-9E08CA1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95D49B6-07E6-4808-90E0-59FF81A3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278879-D359-444E-8B2A-F030395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682C87-200C-4D9F-832C-0324A06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F5F381-BF02-49B9-82E1-3E1FCD5B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7B803F-D143-49E8-9EA8-E6D09DA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C118-19FA-4B68-9F4C-5CE53E2E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18E7F1-1F49-4DA7-B30A-38AB1DD8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F38670-1BE8-4D17-A747-DE1DD54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63566B-A898-4E6E-B4F3-6BA4709B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ADD27F-E20C-48DD-96D4-F31B3F1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0FDF4D-1FF7-4C4D-8C8E-0D7B88B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CEB47E-62E2-4D38-A227-3D012D0E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550BE1-2848-41B1-B48E-6B85D095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2F968-CA31-485D-BD82-0D8FE0CA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75708-A0D1-4F97-AC52-EDB0010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C845D-DFFE-416A-B8D0-865BB69F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E84-30C1-4BB2-B46A-902C86F0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4C1DB-56AB-4065-AF69-67B8B531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7FCFF-7E60-488C-B963-CF70BCA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43AFE1-8DD0-4C97-A17F-A2C0C565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B09AF-6D84-4D66-8463-F4F3D4A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F9D9C-21ED-4FDD-A965-EEA86BD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C93E8-F06F-4E01-8484-CE5643A9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F94D1-B577-4B7C-8DB8-5EB84C8D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F2662-5448-4B36-A22C-0B8F6FC9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C6E3BF-9DF0-4086-8F60-B379BBFE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267FFC-8DFD-4D10-B8DF-0C90662E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4FD-A159-4482-B436-AE7C0043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CE36D6-9E35-4531-95B3-50C0097A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6AFB9A-9C63-4DA2-B981-A074958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7A95A0-BF2A-42E5-BB04-7D531C1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800547-7C70-4489-8A1F-1609C78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A7DE936-369D-40E9-9D2E-9F83116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F3CF48-ED4D-425A-9749-EE16BD7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DAF579-69C6-4668-9686-3529E56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32AE5B-378E-402E-B709-BF3583B3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E38150C-07E2-473E-AA70-5B737F8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2676FB-2F19-4149-9517-C0A2CE18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7323-E28F-4B89-BBAC-B5D15B87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D25EEB0-1DDF-403C-9F35-C1F7FB59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284A50-C6A4-4404-96A3-C85EA9F9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864EC-40E7-4815-9DAE-F47DCD1B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8976A-910E-40AB-AD4E-89DD37F3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99761-9781-4EA7-8BFE-06DA54DD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9151E-88C4-4463-B293-3403BE1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06C16-0CAF-4206-805E-F5EC562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F6A052-2810-4DCB-AE3D-72F2FDF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E4D48-7875-455E-A0AD-C6C8A35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58C72-DB1A-4256-A322-07CBF02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37A9B-0ADE-447A-8638-C21E805A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A51C9-A1A7-4C72-8FBB-31D39CD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40446-34E5-4F5F-9360-ED2E6C9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9A59A1-F723-4BC4-897A-97A2A7D7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2E8C7-B831-4FF4-AF51-A2900EC7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3FC859-9D78-4D23-8BF1-95F9EE8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9897C-FE1B-4FE5-BC2D-77D52C4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36895-2DA7-4E03-860A-4F13C0CB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090840-D704-43E8-BA34-8A794B42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3A077-1E40-4C31-BCFF-1DCBC6B9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26519A-0217-4E51-BB9E-C63651D1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BC57-7DA9-4E20-B5FD-7169F9B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A3826-6D3F-4F8B-852F-35AD298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01B47E-D822-4FD6-860F-A8513950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5FDDEB-AC9B-4256-A3CE-F158A2E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F72DD7-5449-4899-9E38-D65DE406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13D2D-8250-4556-AF70-612599FF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83E4D-90BA-44B3-9448-BDF39118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F39AF-A5D3-4E22-A8FD-AE5A9AA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3BC46-17DB-475A-92D0-00BEB033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74810-FF1D-4699-B100-276962A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290F1-5386-484A-B982-54E1DCD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789B-3841-4747-90AE-D4D7572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83BBBB-E57B-49B6-97C7-82D198B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72746-A29D-483E-A722-D7EC339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BCBAA-147C-4EFC-BE71-85E38B0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75DAE-BB15-4B20-B78D-D7A6436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DF13E-0DE9-421D-BEDC-8265FD3A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5DC194-2177-4D54-9D3D-910ED68C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0B742-9F6C-4AC6-9C18-48AC92FF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B12D84-96C0-48C4-8A67-022A426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8C6070-EB10-4C92-A016-03EEDD06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1A850D-B307-43D4-8F00-95BE15BB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807C-22EF-47EC-9A79-07A0B6A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135949-7280-4531-A3D7-A1500BC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1588B-DE9A-43F7-991F-681F584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F592CE-DEA7-45C3-AA93-8C445DB9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D80722-C5C9-409C-B83A-7A3DD0E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4D4E54-6BB9-4CAA-8DE4-EFEDC789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B48E4-CEF8-4901-9269-53A2937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0571E9-19CD-452E-B9BA-FBE3BCD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97DA2E-8D36-4569-BF97-B6937ECE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290B3-4F41-437E-A020-897F668A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C0EFF-A941-4445-81E7-E93735D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B395-47BF-483F-89BB-9B7EAA84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949AC5-5DB8-4EBA-B639-E602916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EF2CC1-A4E3-45BE-945F-483488FA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E62372-5412-492B-A927-9D82563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5E3890-9576-4802-9BDA-71FEF64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76BAEB-4BF4-4A73-86B7-3F84DC2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49A9F5-8B0D-46A1-A803-F545394D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E09B20-33D9-4AF1-8A5C-06D27B1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5AE45B-1C3E-4A0F-81F5-42A75BF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9D4600-50BB-4F8B-8483-2E976666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808870-0D44-471D-B20E-E76C84F3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B28-3809-4C0A-8D3F-5678495F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6EBA-1C2F-4CFD-BE5C-B3C3EA1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3BD0DB-A1D5-460C-85DC-768FFAC3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46B9ED-699B-4889-A49F-8CE501BA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DB717A-0FAA-48AC-856F-44EAFA8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8D900C-2E8A-4F77-8816-19BE0450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07F064-0E23-47AD-96C7-830BEDF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5D84A5-6895-4293-B906-DE2F8E4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C2D6DB-5B68-42BD-B08A-7425D1E9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F0E0C-7C7F-4AD1-8CD4-808CE26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E69413-CE2C-4EBD-BE8B-3FC6258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C68B04-6749-401C-9099-F9FE87C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E3BA-9978-497C-A59B-54487410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63690E-1604-4E21-9D99-FAC478B3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3CC267-E315-4D07-A3B8-E50B8D6B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A77C85-F7F1-444B-BD25-16A73035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A8DD8C-2F71-48D2-908B-2E441CD6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1DA4A8-FE3E-4AFE-A237-F34ED37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D9F1F0-6ED4-44BB-8707-D25B8CF3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6BBE7C-41D5-4E9E-ADB8-C7FB26B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DC8AD1-1D9F-44FB-9B72-4A3354A0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7C6A73-B75B-46EF-AD4D-3E03104E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EBA80-CDF9-44E7-8C28-DB41528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355D-EC46-4BD2-BC14-405F644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192F49-5EF8-41C6-937F-751045A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A77DDE-49D6-4E8F-9633-74E732DB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5790B7-26F1-43E7-92B3-5156DB1A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3192B8-79A7-464D-BC12-90FAE43F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D23BA-EB3F-46DE-9ED8-4483EB31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5696A1-B0BF-460F-BF5B-94FF6CD5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0AAA8D-69A5-4E44-8D75-4BF856E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7D8A88-ACF3-4E7F-B2CD-D2E9275D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3B5F4C-BD53-4736-B76E-024920BA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917DC4-2E53-4FF2-A1FD-D25B6D0E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953D-4775-483B-8C4F-3B0C394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3CD1CC-7E9A-4BFD-92A6-A118CE88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AB9A75-D0C6-4ED6-A714-009768F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C03E5D-11CA-4AB6-AE7E-D6EFA91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CB4CEC-CCA4-4A73-9F58-6EE96AB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2168A5-4073-492B-A197-C80385D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6C50AF-98D1-4866-A0EE-41CD137D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64F0F5-D7C3-40EC-BE80-9A6B021B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2CCA9A-E289-43B8-8B89-2C63BE55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CCF45C-BAD1-431B-A6B5-1D64CC72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C08717-9431-4FAD-A843-1B124B30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6E53-72C4-4A3F-8BD7-44F97351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AF399B-8D53-45A0-9761-A67B8ABD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CACFD6-3D09-403B-B4CD-DECCF37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52F1D7-4A78-4F0B-A4EA-E1F26B7E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7F1B1E-B11A-40A7-9703-0551008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8F11CA-527B-46FA-B854-DE1D520C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EC0FEF-F5C6-40A2-8FE0-3FF4EA0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BDC028-4A72-477C-B6D6-09CCBDD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3B3A27-F160-4232-8B89-1B53F85E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DFB521-D37A-40F2-8582-3F3EAD58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A5FDCE-B349-4FF6-ADA7-2FEC2346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00D0-E2EC-49C6-9158-7002D5B1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D4E920-F9BA-40A9-BE2D-0F5796CA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A29DD2-49F6-4359-BEBF-D3B8392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BAB168-F69F-4E94-80EC-8F64F31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BF7A50-10F5-46AD-A831-C6E5BA2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37253F-B5EF-44CE-80CD-C831B343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81361E-BFB2-418A-BED1-E61C245A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979A95-E998-401C-92F3-52A9927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A6329F-02AF-4FDE-9A58-77B9DE9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DF9293-170E-4C1C-A60B-34FCA97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165BF9-C3FB-4F85-85DA-F3903637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5303-8579-49C6-B8D8-A8B21224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37A5FC-1411-40AD-9D34-7F5CE2E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F64103-9200-4075-A1D0-651DC64B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180413-01C0-4288-9544-FC5CFC09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1F699A-A211-475F-AD22-96F973AC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97786C-ED76-40AF-807C-B0AE528A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427F8A-AA78-46D2-BAFB-D24AB025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A10B2-09AA-4E3D-BFBB-59D5B55A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6B73D8-2918-41F1-958A-EF1AE283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0E93E7-D6EC-48B0-BD20-3A435CF3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292FFF-D165-4CED-95B8-5072813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381B-E973-482A-AC6D-77BBC9AC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ECFEBB-1DAA-41E4-8494-8F2ECE82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2824C2-1792-414D-8F49-8C3AAE7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BEBED5-C6EA-4400-B104-7A58D4F3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4F0C30-C257-475C-87FF-5F671E60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64F1CB-BCA5-48B8-8FC6-68BECE06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B9348-8444-4FE8-BD97-C95B70A6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4941FE-CE24-412A-846C-85781BE7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F65D1E-5492-4F47-8DA9-05F053CD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304856-576A-4561-A897-2E37CED6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961109-B22F-45AF-B7AF-020384B1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7545-D3DA-47BA-9300-87C6770C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7FE6EA-94F7-40A0-A106-010A7C6A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EC1BD0-04F8-4E3D-AB4F-F7AD71FF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9516CD-115B-41E7-B3CD-ED8A947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687FA5-5624-49DA-A9F8-7EC7BD0D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9D8991-76D7-4228-A99E-C56035BC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6C3D98-27E9-46AD-81DE-57939CEB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E6785B9-C297-41CF-A6D5-5390D64B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2A60EF-B832-4B59-A06F-16F51D44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90A98F-7EA5-49B5-8E70-4A4DDD6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984E5F-A9A7-44D0-B4A9-6CE5D6EC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6D2C-DB05-4EC3-B1E6-7956120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535ADF-D32D-4D9F-A10B-2759047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B3ADFE-6883-47AB-AD67-2A9D447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1C569-10A4-440E-BD27-3A3226F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CEDEFD-1C85-404A-8642-6F6B7158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C3C25F-052A-48C9-AE76-95C14984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365B2E-76A1-4BB8-BAD1-AC95F232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462BCC-1109-40FD-86DB-AFB6E4E5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E0F3DA-6913-4F9C-AA80-ED717160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DEDB40-FE5D-49A4-B453-14985261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C1061F-DA85-460F-8578-930E597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129-4F50-4EFC-8666-24FF50B9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8141-8544-4D0E-9726-11B2C23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FA9FBF-C87C-43CD-871A-F1F2B622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C67F36-014C-491E-B859-57403E4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7578EE-CF06-4389-B735-3DD6EA49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442DDE-61BF-464B-A787-5A737E2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17A026-F3AE-4428-ABF2-9BDED7E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7D18E0-7B72-4481-A2A0-B3B3205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A84001-1BD1-49E5-964C-9B508CF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78561A-2E16-4E16-B95A-37D9FDA8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760443-3C94-47FD-ACB1-006FE0BE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E36C93-2FC2-4557-A437-125E4206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57C0-914F-45BE-9A3B-82E04CC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A89C6A-A7DC-418D-A1CE-889406E9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1B99E66-FACE-47A9-BF2D-587E7EB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ABB502-6B2D-47A2-A66E-A8D05E8B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5369EC-6708-4D27-8CE0-3354DB38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7B975A-6747-42DC-B29E-0C09995C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23E1E2-92FA-4720-A857-9EA1F33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8469B4-4D40-4560-8411-B40AC81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328EAC-9EE4-4F16-9971-643B895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AC312A-CE91-4C33-9917-10FD9E8F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08720F-E004-48CA-8561-BF564E10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E5B02-EF0F-4742-BBFB-FB47990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93FD48-874D-49FC-9121-B13EC599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D040B0-6B4D-40BA-972E-8B9D0129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51CFC9-6874-487A-825E-3E5C471D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459EEE-63FE-4154-B907-0D7550E5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5DBADEC-DA61-409C-93E8-907850E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9A797-6933-45CA-88DB-4621B30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582D9E-F58C-47A4-8BD6-F412963B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D76DFE-7EEA-4A6E-A0E0-C3253621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C8CB6E-DA70-43AB-8DFD-20641A14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9E3D09-95DC-419E-B3AE-AC9256E8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252A-0427-401A-B485-51FA146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66D0B1-3A29-42AC-943A-CFDB105C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DEBEA7-FA8B-4606-870E-7EEC546C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9666A8-48C7-4272-9802-1E8DD0C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0A3567D-2859-4432-B5A7-7906E047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E42BE2-DF2E-4B05-BC66-DE3B156F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54A426-2840-425C-9B79-B167754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B5DC7D-FF2D-4B81-8599-265BA0A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DE3B82-8B13-4C76-8905-A19C8F7E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9ABA9C-A57E-42BB-A743-DA833211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7EF8DD-82A8-41BA-809A-5317ED3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3631-E591-4529-9D73-4BE9653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6E0F06-AF03-463B-8F86-D5E2ECE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E79919-C121-45F3-B0E9-D4664F23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F52CA3-B89F-447F-81AF-FA8D562A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5BE9A0-ACCA-41DE-8465-4300DB1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BDD11F-83D5-4285-93FE-2E86DD3F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CC5649-8E5D-4F0B-B68C-64875848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070255-CBDE-4849-9729-7626894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395285-E103-4233-BC15-2B9B288B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55235E-94B9-4622-A0AA-B867B7D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6303A6-2E7B-4CE9-BA45-BA511D6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422C-042B-4B86-8371-CE3B713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7353A9-0483-412B-9B87-A5F5001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DA37253-E9C8-4538-948E-80A490E2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164DA8-0CB5-4365-B03B-2CBCAD46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49CF6EB-E156-4FB6-A398-55CACCB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09EDB69-5D7A-4907-982F-6C487E10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4AD3AA-BBC3-4F2B-BE71-CA066B06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D85E4C-436D-438C-8ED2-1997397F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74A4AA1-92B8-4E69-B540-A77C2F73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76FA68-D680-4756-B676-D26EF48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726DA6-09DC-4ABF-93D2-AE4FF82B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D012-83E2-4766-9180-353883FA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663469-0D58-48C9-99CA-8AD7B07B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0EB8BA-3656-41DC-B442-DA835DD1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CE89D0-71BD-4836-94FC-33A6EA6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8B0729-5D65-4552-A981-A2BF9E54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668725-83F6-4E2D-B058-14A6C7C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4A08B3-9F07-423F-A466-02BDA28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0376FE-0D5C-465B-B86C-3C4E5F7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8E3C9B-49DF-42FA-9278-EB9FCF2D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C1DC6A-AF96-4389-A08A-52518D5C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340A69-F9F0-4467-AF43-D8A5A64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386D-38CC-46CC-A318-DEAFBB9A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00F5ED-15A6-4E91-9DD7-1C808F09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A30B12-42E8-4EA6-81BB-77A460C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42DE18-D8EC-4A81-B135-C388415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462AB5-81CE-4D22-8ACD-CA66E067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FD5F00-ACD6-448B-846A-2E72BF22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1BAAC8-6600-4FD2-BA46-0588743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8AC123-24E4-430F-B066-0D3EFE7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7D0B492-90C6-45B1-9E06-BCC98EF0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69E10D-09C7-4167-9647-6461D71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105A3B-6D36-449B-8636-0D962AB8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5B1A-24A4-4747-8547-424B305D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6BD276C-4A6B-4C8E-B70D-06E2BD25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A4F73BB-974C-40AB-BF28-B9B6E55C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47480F-34BC-4D9E-A5A3-BC966D3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3FA8A2-61C6-4401-93E9-0F13939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C6CA59-B2E6-46FC-9358-D0A15E5C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DF17E1-946E-498A-8CD6-E5AB84D5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F22C74-00EC-4635-9A8B-D10AE70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D01EDA-B645-40A8-96EE-4CD49282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9D45B55-2F7D-4DF1-AF9E-E582661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A58F8C-02A6-47A9-8D6E-909B5157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D89A5-6165-4EA6-BF35-9DB164A8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52E7AD-718D-43B3-AAEB-69732AF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0BA182-AD0B-4C94-B5ED-B8644BCB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8CF1BC-3242-4512-8D94-14FD07CF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5EB73A-E15D-44A2-8708-7FED3CC4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E4A685-7F98-4916-819D-CCA9BB2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6AE8E6-1073-4812-AE0B-23F993B3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9F7CA96-7A55-4B34-8452-B520F135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E38494-9C78-4763-84F2-DFB2B3A8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EDC9C8-123B-42E1-AE0F-C946D942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1956E7-38B7-47E8-A05C-0416053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CDA-BDEE-4EE9-8DF6-8F56830A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8ED0-06C1-443E-ADFC-DA96822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E6AA916-5117-466F-8D57-666925F6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297B20-E0CD-45BA-B29B-A4461E2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76A9BE-6A89-4CD8-ADDA-9E3C5A1B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302C4E-180A-494D-9E9B-C1C4588E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7BAB8B-C223-489D-86AB-C189029A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ACC71-7CF7-48ED-92A7-91CA24DE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9BEF-262A-4694-B2F7-843954C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55C9-E380-445A-BD60-3DCDF5CC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5E869-4EA9-4C7F-AC81-D9FD87F3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E8EAD-B3B9-451E-8C92-5F4ADF1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A79D-F4D1-4C8E-A00A-DCC5070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7ACC-B9EE-4BF5-B89D-D4A7953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6D17-2C36-4981-9441-06FDC03C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13E2-4D27-4D14-9D17-A8380A6C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A0A-A9E3-4FD1-967E-4A78A52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2D89-65D2-4D2F-8788-365D86B4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FA5A4-5EC0-4EC0-8190-4D41E812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8A50-A1B2-4EEA-86D6-C65DF59B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088D-9827-4CB7-8ED2-D1417B3E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589D-9323-4AE0-8B90-1E75C4F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39B02-8DBD-48FE-A2E9-C3897B0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CD06-A786-43FF-9A61-051B023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E438-1847-424F-B4B2-7D5F7E2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5D06B-8498-4651-BA8E-60A3B53D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82E4-3252-499F-96AD-91584BE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953-7CBA-4214-85BD-873DCAE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52C9-CF94-4153-BE1F-47103E1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B92A-830A-4FBB-BB6B-FD2CD17A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0451-0682-41A5-B598-05294B79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C55E-7D7C-4856-9FD3-A4B553F1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AEF8E-5360-40BF-81E1-5C3417AA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6FB37-1ABE-4ABF-8026-F8D52DA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E63B2-27EA-48DD-A790-777E8A2B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307C-462C-4B37-B06A-EF04B1EF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9795-E2B0-4C5E-BB4C-C8881E2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865B-A5E0-47F7-A110-C95EE31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DAF-8834-4FC3-8560-78E62DB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BE98-42BB-4408-AE3D-AC7F81D3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FC8D-8753-4EEF-8E27-1106C890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462E-5608-40B2-8399-A304DAD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1EE2-4645-42E8-A626-65A50E1B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5BDD4-6E0C-4556-94B8-05758051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B9DFE-944B-4C50-ADD0-7A24A412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005CB-C6F4-4E37-B43B-48BF4B1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13A1-A5BF-4197-99A3-F5D6E95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80D35-B74B-4DF8-8803-2C4D410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D365-40F3-4CE9-BA1E-8BFE950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434-2BAD-4286-9D70-5013D26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452EE-B157-4CBD-A343-2AF8B1D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38BF5-623E-4432-9FC8-4BC5AC1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ABC0E-07A7-4579-AB86-53B8404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32EE-DAB5-41EC-9EC0-0B5DD99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E00EA-45E8-46E4-B6FB-CC651A3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E4EC-DB6C-4F3B-8786-91A8FBE2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18112-F693-4E77-BFD1-41E620D4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B991-EE48-4C2A-A72C-78EFF8A9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AB674-8C0C-41E6-8081-F9719673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5CF7-A711-4DC2-8543-1437F55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2EB7-5073-494A-B629-D26B6882E3CF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EA74-55BC-4F52-8425-0F6EB012FDF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67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ADB-AC43-4C5A-B8CE-DBF26DB723C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1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513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3AE-BF80-45F0-9F2E-FC9D974446CF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02D-5E48-43C8-A2FE-BB31A3361F7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00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0C4-062A-429B-88F1-3FAB13754823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4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45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0F97-ADED-4049-AD39-C257A05AF48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6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FC71-9006-4BB7-A6B5-C2681020CAC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A65E-FA8F-4014-A590-C32359B55931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545-4134-4436-904F-19B057A77534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8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2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3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4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5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6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55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56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57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49D1-C498-420E-8CB2-0855650EDE12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4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4958-D556-46B8-ABFB-CFF4533FDCDF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sldNum" idx="5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32D-8592-44E3-B647-65CFEA289CC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ftr" idx="6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6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6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732-DD50-460F-86E0-C0613F81941A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DDDA-105E-4A6F-99FC-09EC6A286508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49E-FFBC-4CEC-86F6-245F3390CEC2}" type="slidenum">
              <a:rPr b="0" lang="en-A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200-C497-4DC2-9478-B45C2A81492F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7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7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7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D662-7B40-426C-9F4B-308F967C7257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7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7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7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AD47-1436-487D-8FF5-BF96EA2B7B4B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7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FE89-DB70-481E-8A29-C5EC36190C67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23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8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AC4-D13D-47E8-8BC7-64FF2807E888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8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28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8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28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8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8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8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DC1E-89C2-4338-9B78-8352E9DF5C9E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3EDD-35CF-4A19-A3D6-7E44A85B51F1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3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2654-9CA4-4826-849E-BBFB0B652CBF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7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EE91-1C38-4911-B660-A12C9AE1C71F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9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9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9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654D-159D-49CE-840C-A17607F4E410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460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FC66-A768-4961-9D02-52A3D5B159ED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FFA-2A02-4AE3-8DC8-CF1A5AD9DA76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10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10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10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5897-381C-4BD5-BE72-F2FCCC8E4DBF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58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8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  <p:grpSp>
          <p:nvGrpSpPr>
            <p:cNvPr id="158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59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Perpetua"/>
                </a:endParaRPr>
              </a:p>
            </p:txBody>
          </p:sp>
        </p:grpSp>
        <p:pic>
          <p:nvPicPr>
            <p:cNvPr id="159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EC1-3ABF-4443-8E87-06B288181982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63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3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63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4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10DA-7696-4785-9A2C-1510318EC2DC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6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6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1F87-821B-4599-A982-4D715CE896C6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D40-0041-429C-A57B-F7A3E82E1C68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5220-D4DC-48E0-8761-E790B32DAF8B}" type="slidenum">
              <a:rPr b="0" lang="en-A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77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77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77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F63-DFEE-435F-9EDC-A0CBE4D1C0AD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10E-88B8-44F0-9207-0E7A1321301F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86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6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186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6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7504-C4CB-4ECB-8FD7-98AA3B8A59C9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BA22-957A-47BD-8E59-1C95E309A349}" type="slidenum">
              <a:rPr b="0" lang="en-A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9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grpSp>
        <p:nvGrpSpPr>
          <p:cNvPr id="19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23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pic>
        <p:nvPicPr>
          <p:cNvPr id="2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746-4802-4B72-9034-B714F5D8848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2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552C-1B10-4EC3-9788-67E5171AADF6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328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29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910-7825-40B8-AF9B-E186B1E72427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0D81-2BC8-4933-8AC9-5B63C9D09B79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ECOLOGICAL PYRAM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e3b30"/>
                </a:solidFill>
                <a:latin typeface="Franklin Gothic Book"/>
              </a:rPr>
              <a:t>Shows the amount of energy input to each trophic level in a given area of an ecosystem over an extended perio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e3b30"/>
                </a:solidFill>
                <a:latin typeface="Franklin Gothic Book"/>
              </a:rPr>
              <a:t>Why will this type of pyramid never be inverted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Pyramid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4" name="Text Box 4"/>
          <p:cNvSpPr/>
          <p:nvPr/>
        </p:nvSpPr>
        <p:spPr>
          <a:xfrm>
            <a:off x="2895480" y="6400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4–19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5" name="Text Box 5"/>
          <p:cNvSpPr/>
          <p:nvPr/>
        </p:nvSpPr>
        <p:spPr>
          <a:xfrm>
            <a:off x="142920" y="1450800"/>
            <a:ext cx="298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nature, ecological efficiency varies from 5% to 20% energy available between successive trophic levels (95% to 80% loss). About 10% efficiency is a general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36" name="Picture 6" descr="M04_19"/>
          <p:cNvPicPr/>
          <p:nvPr/>
        </p:nvPicPr>
        <p:blipFill>
          <a:blip r:embed="rId1"/>
          <a:stretch/>
        </p:blipFill>
        <p:spPr>
          <a:xfrm>
            <a:off x="3048120" y="1316160"/>
            <a:ext cx="5867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 Energy Pyramid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8" name="Text Box 5"/>
          <p:cNvSpPr/>
          <p:nvPr/>
        </p:nvSpPr>
        <p:spPr>
          <a:xfrm>
            <a:off x="990720" y="14508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nual pyramid of energy flow (in kilocalories per square meter per year) for an aquatic ecosystem in Silver Springs, FL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39" name="Picture 7" descr="M04_20a"/>
          <p:cNvPicPr/>
          <p:nvPr/>
        </p:nvPicPr>
        <p:blipFill>
          <a:blip r:embed="rId1"/>
          <a:stretch/>
        </p:blipFill>
        <p:spPr>
          <a:xfrm>
            <a:off x="228600" y="2819520"/>
            <a:ext cx="8153280" cy="2611440"/>
          </a:xfrm>
          <a:prstGeom prst="rect">
            <a:avLst/>
          </a:prstGeom>
          <a:ln w="0">
            <a:noFill/>
          </a:ln>
        </p:spPr>
      </p:pic>
      <p:sp>
        <p:nvSpPr>
          <p:cNvPr id="1940" name="Text Box 8"/>
          <p:cNvSpPr/>
          <p:nvPr/>
        </p:nvSpPr>
        <p:spPr>
          <a:xfrm>
            <a:off x="3352680" y="49528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Note: More individuals can be supported at lower trophic levels. Less energy is lost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like the one-way flow of energy, matter is recycled within and between ecosyste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se cycles are the water cycle, Nutrient Cycle, Carbon Cycle, nitrogen cycle and phosphorus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4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 ecological pyramid is a diagram that shows the relationship amounts of energy or matter contained within each trophic level in a food web or food chai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Energy Pyramid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nly 10% of the energy available within one trophic level is transferred to organisms at the next trophic leve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1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Rockwell"/>
              </a:rPr>
              <a:t>Biomass pyramids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show the total amount of living tissue available at each trophic level.  This shows the amount of tissue available for the next trophic leve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umbers pyramid shows the number of species at each trophic level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cause each trophic level harvests only about one tenth of the energy from the level below, it can support only about on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the amount of living tissue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3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nergy flow through an ecosystem in one direction, from the sun or inorganic compounds to autotrophs (producers) and then to various heterotrophs (consumers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Food Chain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are a series of steps in which organisms transfer energy by eating or being eate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Rockwell"/>
              </a:rPr>
              <a:t>Food web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show the complex interactions within an ecosystem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step in a food chain or web is called a trophic level.  Producers make up the first step, consumers make up the higher level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9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Food chains and food webs do not give any information about the numbers of organisms involved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This information can be shown through ecological pyramid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424456"/>
                </a:solidFill>
                <a:latin typeface="Trebuchet MS"/>
              </a:rPr>
              <a:t>PYRAMID OF NUMB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eorgia"/>
              </a:rPr>
              <a:t>Shows the number of organisms at each trophic level per unit area of an ecosyst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yramid of Number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0" name="Text Box 5"/>
          <p:cNvSpPr/>
          <p:nvPr/>
        </p:nvSpPr>
        <p:spPr>
          <a:xfrm>
            <a:off x="838080" y="1447920"/>
            <a:ext cx="7696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ramid of numbers displays the number of individual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each leve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1" name="Rectangle 10"/>
          <p:cNvSpPr/>
          <p:nvPr/>
        </p:nvSpPr>
        <p:spPr>
          <a:xfrm>
            <a:off x="1981080" y="1143000"/>
            <a:ext cx="4724640" cy="228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22" name="Picture 12" descr="image: pyramid of numbers showing grass, vole, barn owl"/>
          <p:cNvPicPr/>
          <p:nvPr/>
        </p:nvPicPr>
        <p:blipFill>
          <a:blip r:embed="rId1"/>
          <a:stretch/>
        </p:blipFill>
        <p:spPr>
          <a:xfrm>
            <a:off x="2743200" y="2438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3" name="Oval 18"/>
          <p:cNvSpPr/>
          <p:nvPr/>
        </p:nvSpPr>
        <p:spPr>
          <a:xfrm>
            <a:off x="4800600" y="2514600"/>
            <a:ext cx="8380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 owl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4" name="Oval 19"/>
          <p:cNvSpPr/>
          <p:nvPr/>
        </p:nvSpPr>
        <p:spPr>
          <a:xfrm>
            <a:off x="5029200" y="3429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5 vo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5" name="Oval 20"/>
          <p:cNvSpPr/>
          <p:nvPr/>
        </p:nvSpPr>
        <p:spPr>
          <a:xfrm>
            <a:off x="5638680" y="4191120"/>
            <a:ext cx="15242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ass pla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he total amount of matter present in organisms of an ecosystem at each trophic level is biomas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Biomass is preferred to the use of numbers of organisms because individual organisms can vary in size.  It is the total mass not the size that is import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Pyramid of biomass records the total dry organic matter of organisms at each trophic level in a given area of an ecosyste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 Pyramid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929" name="Picture 9" descr="biomass_pyramid"/>
          <p:cNvPicPr/>
          <p:nvPr/>
        </p:nvPicPr>
        <p:blipFill>
          <a:blip r:embed="rId1"/>
          <a:stretch/>
        </p:blipFill>
        <p:spPr>
          <a:xfrm>
            <a:off x="0" y="2133720"/>
            <a:ext cx="8937720" cy="4297320"/>
          </a:xfrm>
          <a:prstGeom prst="rect">
            <a:avLst/>
          </a:prstGeom>
          <a:ln w="0">
            <a:noFill/>
          </a:ln>
        </p:spPr>
      </p:pic>
      <p:sp>
        <p:nvSpPr>
          <p:cNvPr id="1930" name="Text Box 11"/>
          <p:cNvSpPr/>
          <p:nvPr/>
        </p:nvSpPr>
        <p:spPr>
          <a:xfrm>
            <a:off x="304920" y="1295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isplays the biomass at each trophic level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3:46:28Z</dcterms:created>
  <dc:creator>Lyn Clarkson</dc:creator>
  <dc:description/>
  <dc:language>en-US</dc:language>
  <cp:lastModifiedBy>Lyn Clarkson</cp:lastModifiedBy>
  <dcterms:modified xsi:type="dcterms:W3CDTF">2007-10-26T01:23:01Z</dcterms:modified>
  <cp:revision>11</cp:revision>
  <dc:subject/>
  <dc:title>ECOLOGICAL PYRAMIDS</dc:title>
</cp:coreProperties>
</file>